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5C6-5106-479B-BF40-2A10D38B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1BB-0A1C-4C60-851F-3C48F234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12B-5FB5-4966-BD11-871AB920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864-6AD4-4F24-8042-1816CE67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DBB-726B-44A3-A5CF-9A520C1B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1818-4E4B-470C-8F6E-F385EDF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270C-536D-4633-A5B0-2A3E310B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48F0-33EB-48D6-A611-F50F439F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2ECB-0396-4E5B-B3BC-54DFD493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7CB7-C029-4310-9FBC-A38AAD8E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6249-5DD3-4C99-8B9F-F837AF1D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5DD-DEEE-4E2C-8BAD-A633705C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C43-4CA2-4EC9-8EA0-01FD4586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EC5F-0FE1-4111-83FD-490C6552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6E9A-75E8-4E45-B3C3-874496ED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C65-34D4-4F14-BC07-0368A58B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B0FD-1BAB-4154-8474-A5109925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BD8-C2E5-4651-9B97-32C639CF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DA8-5E9F-418F-A2A8-6A70CD0C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DE9-7AE8-466E-A43F-9BD87A12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0EA-50FD-4446-911D-367B678F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8BD-1DC9-418B-80F6-80B9FA5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6E1-5885-420A-BAD9-8F5ADC6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FDE-B195-49CE-98DB-68A0E2C9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DD04-FF12-4A19-AF73-B16C877FB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1600-E3C3-4F1E-84E1-BB479FD78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TERARY DEVIC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23880" y="1905120"/>
            <a:ext cx="586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y love is like a red, red rose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Robert Bu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352680" y="23623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905120" y="1523880"/>
            <a:ext cx="518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oak trees whispered softly in the night breez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John Steinb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7920" y="248904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523880" y="1727280"/>
            <a:ext cx="62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was so surprised, you could have knocked me over with a feath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362320" y="251460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YPERBO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26"/>
          <p:cNvSpPr/>
          <p:nvPr/>
        </p:nvSpPr>
        <p:spPr>
          <a:xfrm>
            <a:off x="1219320" y="1295280"/>
            <a:ext cx="60958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moan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of doves in immemorial elms;/And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murmurin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of innumerable bee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Alfred Lord Tenny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438280" y="2327400"/>
            <a:ext cx="396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752480" y="25146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OMATOPOEI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981080" y="2784600"/>
            <a:ext cx="51055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roning a drowsy syncopated tune,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Langston Hug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14600" y="256536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447920" y="2133720"/>
            <a:ext cx="5715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yger! Tyger!  Burning bright in the forests of the night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William B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581280" y="28195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HY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95280" y="144792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un is a big ball of fire.  The moon, a luminescent pearl, nestled in a cushion of sta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819520" y="248904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4:43:56Z</dcterms:created>
  <dc:creator>Maurna Thornton</dc:creator>
  <dc:description/>
  <dc:language>en-US</dc:language>
  <cp:lastModifiedBy>Hilary Wiltshire</cp:lastModifiedBy>
  <dcterms:modified xsi:type="dcterms:W3CDTF">2011-02-13T18:05:52Z</dcterms:modified>
  <cp:revision>3</cp:revision>
  <dc:subject/>
  <dc:title>LITERARY DEVICES GAME</dc:title>
</cp:coreProperties>
</file>